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E5A-9505-4476-8EAB-00764533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76B-2DBA-417C-9178-20AF3D56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A56-4703-43D1-A4F0-F08503F3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C3D-2655-499A-8BC2-4C8CCB4D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CE0F-1FFA-4C91-8B67-6E9B0CFB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BB76-4C87-49BA-8B6A-6EEFA26F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F33C-B07F-44CC-BB23-83DD09CD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3210-5D40-4D38-A03E-A128D450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61DD-699E-4551-864E-033336AD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3729-57E9-4DD4-A57B-62C0BD31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6D12-E5FC-4C6C-BBB8-055F5A0D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1DE-2C59-454C-B3EE-F6E82FA2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DFBC-26FC-4F10-AA7E-BE0EB18F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63A9-8CD9-471D-9C62-CE3C999C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4265-A71C-4A74-AF5D-7FAD1D31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022A-5B29-4310-AAFA-D34ACFDC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122C-AD93-4A61-B1E9-9927B4C2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862-4EFB-49FF-8268-0B09DB8A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A78-09E9-446F-A60B-7B3D1F1A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5BF-C51B-465F-B422-E634DC05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36E-CC77-48B7-8DC0-8864997D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820-88AD-4BD0-8DE3-362C726C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841-310B-4920-BFD5-67E98020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C83-2696-4FD8-B3F5-460D4800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F9A7-C65F-456B-BDF0-0407947B281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AE0E-189F-4F9F-87A4-542FFDC759C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53040" y="617400"/>
            <a:ext cx="5284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omance morisc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omance de Zulema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l Alhmbra a medianoc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ale gallardo Zulema,[Sulaiman =Salomón]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iego de cólera y celos, si acaso los celos cieg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Bajaba el valiente mor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noche , por ver si en ell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uede con su oscurid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ar lumbre a cierta sospech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que su querida Za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ora  hermosa, discr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lma de su pensamient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fe y palabra le quieb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Tenía celos el moro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l alcaide de Marbell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n Granada residí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que su calle pase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57720" y="474840"/>
            <a:ext cx="3338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anto lleva en el vestid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a publicando su pen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quiere ya publicall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lo diga su libre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marlota, verde oscur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ñal de esperanza muert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una cadena bord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vaba fija esta letr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i esperanza cautivé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omo se vio suj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udando de su resca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no a morir en cadena”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 bonete, carmesí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en él una pluma neg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por letra: “Mi alegrí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mpite con mi tristez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aballo rucio roda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escrito entrambas riendas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27280" y="260280"/>
            <a:ext cx="4032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a rodado por mi alm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mi fortuna la rued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l campo del adarg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vaba una calave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un mote en la frente escrit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que dice: “Ya estoy cerc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un borceguí datila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orado sólo la vuel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dice: “Si vuelta está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fícil será volvell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Una banderilla azu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una lanza jin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dice la letra: “Celo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incádsela hasta que muer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eñido un dorado alfanj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orado jaez y espuelas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toca dorada al braz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s de su Zara la empres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95480" y="333360"/>
            <a:ext cx="38372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gado al sitio y lug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dónde su amada pren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vía, aunque en sus entrañ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tiene morada más cier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o la ventana cerrad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por no volver sin vell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el cuento de la lanz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o un pequeño golpe en ell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u dama, que descuidada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taba de la novel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 un pequeño postig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 asomó por ver quién e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le conoció tan prest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tando un rato suspens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picó caball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llegándose más cerc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ciéndole: -¡Sol del mun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n los ojos reverbera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73360" y="762120"/>
            <a:ext cx="3522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brid toda la ventan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sterraréis las tinieblas!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la , que le conoció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e dijo: -Amado Zulem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e nombre es propio vuestr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o luna basta que se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sabéis que a la lu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 sol su lumbre le prest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si acaso tengo algu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recibo de la vuest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le dijo:-¡Ay, Za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ánto vale en el alma me pes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que te cuadre ese nom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luna , que yo sol sea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que la luna en el ciel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endo el sol en su presenci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da de sí luz ningun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ñal que de ello le pes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73720" y="617400"/>
            <a:ext cx="3426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uando se alegra má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 cuando su sol se ausent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reo que tú lo imit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sto, por darme pena-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espondió Zara, turbad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-¡Qué bien de ver se te ech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so, y en venir tard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los celos te hacen guerra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secha, Zulema amig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e dolor que te apri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unque escaramuza y paj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eas delante mis puerta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ues soy de peña a sus dueño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anto para ti de cera-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algo asegurad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ólo le da por respuest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44280" y="906480"/>
            <a:ext cx="403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_¡Plegue a Dios que al mucho curs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se allane la carrera!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esto se parte el mor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umillado la cabez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intento de mud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aballo, lanza y librea.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34:58Z</dcterms:created>
  <dc:creator> </dc:creator>
  <dc:description/>
  <dc:language>en-US</dc:language>
  <cp:lastModifiedBy> </cp:lastModifiedBy>
  <dcterms:modified xsi:type="dcterms:W3CDTF">2007-10-03T03:33:13Z</dcterms:modified>
  <cp:revision>9</cp:revision>
  <dc:subject/>
  <dc:title>Diapositiva 1</dc:title>
</cp:coreProperties>
</file>